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.gif" ContentType="image/gif"/>
  <Override PartName="/ppt/media/image11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7.png" ContentType="image/png"/>
  <Override PartName="/ppt/media/image20.jpeg" ContentType="image/jpeg"/>
  <Override PartName="/ppt/media/image17.wmf" ContentType="image/x-wmf"/>
  <Override PartName="/ppt/media/image19.wmf" ContentType="image/x-wmf"/>
  <Override PartName="/ppt/media/image18.jpeg" ContentType="image/jpeg"/>
  <Override PartName="/ppt/media/image6.wmf" ContentType="image/x-wmf"/>
  <Override PartName="/ppt/media/image15.gif" ContentType="image/gif"/>
  <Override PartName="/ppt/media/image3.jpeg" ContentType="image/jpeg"/>
  <Override PartName="/ppt/media/image14.jpeg" ContentType="image/jpeg"/>
  <Override PartName="/ppt/media/image16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6EB-AAEE-4C05-8CDC-5987DA63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D8C-F62C-40E0-9CAD-B2FCD1DE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1D4-0601-4CDE-BD78-31C448AD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899-FB8D-467D-9424-9252A340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DFE-D073-4BFE-ABEF-FC5F060B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83A-95FF-4EEA-89DA-E3B00856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FB6-DC94-43B2-88A9-9285FD8A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617-8CB1-436F-AE10-4CB94485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9AF-344F-492F-B374-34BDE509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A4D-B12B-4B37-8604-3ADA58D2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459-D126-4896-A555-5BCED047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6153-9E73-4526-B5CD-293E9C9F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2602-DA1A-48F5-AF9C-179292B7F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n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fe Cycle of a Pumpk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ocabulary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maz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560" y="55627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MMj02839210000[1]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9718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eries of actions that happen in the same ord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308268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ith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dry u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1768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endri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lender, curling of a pla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A curling tendr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590920"/>
            <a:ext cx="2457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a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ndisturb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c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ro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dap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change to fit new situations or surround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mething that happens one time a ye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8120" y="3581280"/>
            <a:ext cx="2819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ngs like proteins, vitamins, and minerals that people, animals, or plants need in order to grow and be health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5880" y="4876920"/>
            <a:ext cx="1751040" cy="149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put something in a hole under the grou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157640" y="3014640"/>
            <a:ext cx="3005280" cy="300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18259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ndisturb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 bothered or not moved from its normal place or situ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19720" y="3505320"/>
            <a:ext cx="407988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ci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y old th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25052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mp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i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ndri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ssi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mething that is extremely lar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3495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pro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very young pla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638680" y="2286000"/>
            <a:ext cx="274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 of a plant that contains see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5334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p layer of Earth’s surf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2674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 of a plant that takes in water and holds the plant in pl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29000" y="3352680"/>
            <a:ext cx="2320920" cy="2360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990720" y="4952520"/>
            <a:ext cx="3429000" cy="22860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gather crop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7274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plant with a long, thin st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0575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mp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vered with high spots or lump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24080" y="32767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lat or ev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3102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0:27:20Z</dcterms:created>
  <dc:creator>Gateway</dc:creator>
  <dc:description/>
  <dc:language>en-US</dc:language>
  <cp:lastModifiedBy> </cp:lastModifiedBy>
  <dcterms:modified xsi:type="dcterms:W3CDTF">2008-01-13T18:49:47Z</dcterms:modified>
  <cp:revision>5</cp:revision>
  <dc:subject/>
  <dc:title>Pumpkins, Pumpkins, Pumpkins</dc:title>
</cp:coreProperties>
</file>